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5EFB-C46E-4571-A865-C9D846C0F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38B6-A210-429B-8E47-784DB7F11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4F05-CA07-4FE3-B278-92D57D631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5E3F-29CD-4AF4-80AC-D807DD448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D80B3-6DA5-4207-BB31-76A3D074A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B112E-5DCE-4090-B11C-987BE7DB4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4D296-E19B-436A-B9DA-1D63CBE61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5C257-C2DA-4DE9-A2FA-09B1DFAD2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8BC79-5AD6-415C-AC2F-B569A5715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650A2-2E2E-4290-9AC7-553CC7F98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00AF3-99AF-4E0F-95C9-B0F555B02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E6A4-55BF-4F9E-97F7-B7A7B1204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8BE72-5DF2-4F6B-9256-E1C63EBF8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06C19-A8D3-47B0-BF85-25252542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89C76-2F64-4B36-863F-E50491A65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E3A8E-1908-4AC2-B227-13C04FE2F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F303B-A615-4143-8510-DB1FD2635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FA90-2A08-4999-B4FA-D010B5A67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DE29-6C5F-40DA-97C8-F82644681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DB4C-8040-4D38-97BD-CD4E2B4FD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CB99-0FF1-46A2-B8EF-4D9B4EAFD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0300-B45F-49F3-9F81-558E5A493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8FB3-74D7-438A-A49E-8DD0472B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D714-F543-4136-9919-9C1E85DC7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685B0-258C-4E9A-A37F-64F879FDCC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985D9-B87A-4983-83BB-C4FC6282EB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onstitutional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onvention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hiladelphia- 178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elegat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55 from all states except Rhode Isl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ll-educated, mainly lawyers, large landowners, bankers, mercha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eorge Washington – presided over mee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5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ints of Agreemen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837720"/>
            <a:ext cx="8007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needed a new constitution –not a revision of the Articles of Confederation- Framers, Founding Fath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nted strong central gov. that could govern here and command respect abroad but would not be tyrannic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eeded executive,judiciary,legislat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continued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762120"/>
            <a:ext cx="8007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entral gov. must be able to levy taxes, raise an army, control interstate and foreign commerce, and have sole power to coin mone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d to exercise power directly on the people not indirectly through the states- a Federal syst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Bundle of Compromises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914400"/>
            <a:ext cx="80074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presentation-Great Compromise-two houses one based on population one based on equal represent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lavery- slaves count as Three- Fifths – five slaves counted as three free persons for representation and direct taxation- The slave trade would legally end in 20 years- 180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riffs-Congress allowed to levy taxes on imports but not ex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continued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838080"/>
            <a:ext cx="80074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esidency- four year term- electoral colle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atified by 9 of 13 states would go into effec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pecial conventions called in each st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ederalists – supported ratification- The Federalists papers-Hamilton, Madison, J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ti-Federalists – opposed i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2T12:40:25Z</dcterms:created>
  <dc:creator>004mh201</dc:creator>
  <dc:description/>
  <dc:language>en-US</dc:language>
  <cp:lastModifiedBy>emily.johnson</cp:lastModifiedBy>
  <dcterms:modified xsi:type="dcterms:W3CDTF">2012-10-01T21:02:33Z</dcterms:modified>
  <cp:revision>3</cp:revision>
  <dc:subject/>
  <dc:title>Constitutional  Convention</dc:title>
</cp:coreProperties>
</file>